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871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73">
                <a:moveTo>
                  <a:pt x="5" y="0"/>
                </a:moveTo>
                <a:arcTo wR="5" hR="5" stAng="16200000" swAng="-5400000"/>
                <a:lnTo>
                  <a:pt x="0" y="31368"/>
                </a:lnTo>
                <a:arcTo wR="5" hR="5" stAng="10800000" swAng="-5400000"/>
                <a:lnTo>
                  <a:pt x="21595" y="3137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871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73">
                <a:moveTo>
                  <a:pt x="5" y="0"/>
                </a:moveTo>
                <a:arcTo wR="5" hR="5" stAng="16200000" swAng="-5400000"/>
                <a:lnTo>
                  <a:pt x="0" y="31368"/>
                </a:lnTo>
                <a:arcTo wR="5" hR="5" stAng="10800000" swAng="-5400000"/>
                <a:lnTo>
                  <a:pt x="21595" y="3137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31680" y="740880"/>
            <a:ext cx="4932360" cy="3699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690800"/>
            <a:ext cx="54356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3849480" y="9376920"/>
            <a:ext cx="2943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D0073-0DA1-4AA0-85B0-2329024DCB9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8960" y="4690800"/>
            <a:ext cx="5435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5A733-5862-41B9-B8F4-F4BFF5499697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159C9-894B-49E9-8ABB-76E3AB6EB93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8D6E7-4BBE-4483-9142-8092BE5E2C1E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1026A-5FE7-4E5F-BC10-0E833E089199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0E610-6358-4C1D-B764-54AD89F4D275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03A62-A577-4AA0-8055-AFB5B7662B0C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BCEC6-8824-4ED8-A012-CD488B5D42C0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00832-D52D-4791-AC7A-84A7CC2DF1FD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05B56-76C7-4ADA-9A37-9F0F77B82D3F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44C72-5E48-479B-B2C4-EB57186E2575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D3615-0BF4-41E2-91A2-0B5237B5A3AE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4E852-5098-45A0-BF63-82FF5C737D73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A631F-1851-4EEA-BC06-F44B537D05CF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903B9-4B87-4757-9F95-EE8D90B51B9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D5093-09FC-4DD9-9BF2-7B27DD341624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83620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010040"/>
            <a:ext cx="883620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64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01004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640" y="401004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06632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200" y="106632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01004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401004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200" y="401004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83620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83620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31172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640" y="1066320"/>
            <a:ext cx="431172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9218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640" y="1066320"/>
            <a:ext cx="431172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01004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31172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64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640" y="401004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64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010040"/>
            <a:ext cx="883620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066320"/>
            <a:ext cx="883620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"/>
          <p:cNvSpPr/>
          <p:nvPr/>
        </p:nvSpPr>
        <p:spPr>
          <a:xfrm>
            <a:off x="152280" y="152280"/>
            <a:ext cx="883944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152280" y="6705720"/>
            <a:ext cx="88394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95240" cy="52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Master-Slav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1066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Výh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96920" y="1014480"/>
            <a:ext cx="883908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81080" indent="-1764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6633"/>
                </a:solidFill>
                <a:latin typeface="Arial"/>
                <a:ea typeface="Microsoft YaHei"/>
              </a:rPr>
              <a:t>oddělení zodpovědno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lave – řešení podúlo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Master – rozdělení na podúlohy, zavolání otroků, spočtení celkového výsledk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6633"/>
                </a:solidFill>
                <a:latin typeface="Arial"/>
                <a:ea typeface="Microsoft YaHei"/>
              </a:rPr>
              <a:t>snadná zaměnitelnost a rozšiřitelnost čá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můžeme změnit implementaci jedné části (master/slave) bez zásahu do druhé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6633"/>
                </a:solidFill>
                <a:latin typeface="Arial"/>
                <a:ea typeface="Microsoft YaHei"/>
              </a:rPr>
              <a:t>efektiv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aralelní zpracování úloh je typicky rychlejší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111640" y="863640"/>
            <a:ext cx="181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</a:rPr>
              <a:t>Nevýhody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1920" y="980640"/>
            <a:ext cx="88362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9900"/>
                </a:solidFill>
                <a:latin typeface="Arial"/>
                <a:ea typeface="Microsoft YaHei"/>
              </a:rPr>
              <a:t>není vhodné pro všechny typy úlo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nelze rozdělit na podúloh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nemusí se vyplatit rež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9900"/>
                </a:solidFill>
                <a:latin typeface="Arial"/>
                <a:ea typeface="Microsoft YaHei"/>
              </a:rPr>
              <a:t>závislost na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  <a:ea typeface="Microsoft YaHei"/>
              </a:rPr>
              <a:t> H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např. na počtu jad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  <a:ea typeface="Microsoft YaHei"/>
              </a:rPr>
              <a:t>Probl</a:t>
            </a:r>
            <a:r>
              <a:rPr b="1" lang="cs-CZ" sz="1800" spc="-1" strike="noStrike">
                <a:solidFill>
                  <a:srgbClr val="cc9900"/>
                </a:solidFill>
                <a:latin typeface="Arial"/>
                <a:ea typeface="Microsoft YaHei"/>
              </a:rPr>
              <a:t>émy s implementac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typické problémy 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multi-threadingem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(např. data rac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může být těžké převést do nezávislých podúlo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etekce a obsluha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chy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</a:rPr>
              <a:t>Základní vlastnost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8920" y="1052640"/>
            <a:ext cx="883620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ncip Divide and conquer (rozděl a panuj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roblém rozdělíme na shodné podproblém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=&gt; ty vyřešíme nezávis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z jejich výsledků pak spočítáme celkový výsled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1093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Architek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79280" y="907920"/>
            <a:ext cx="883944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Master (koordinační komponen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skytuje klientovi rozhraní pro zadání 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rozdělení práce do shodných podúlo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dúlohy přidělí otrokům (slave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dstartuje a řídí výpočet podúloh - často běží paralelně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počte celkový výsledek z výsledků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pod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ú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lo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laves (podřízené prvk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rozhraní pro zadání pod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rovádí výpočet pod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85960" indent="-1605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 algn="ctr">
              <a:spcBef>
                <a:spcPts val="425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116000" y="4248000"/>
            <a:ext cx="723600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1093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Architek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79280" y="83664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81080" indent="-176400" algn="ctr">
              <a:spcBef>
                <a:spcPts val="451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 algn="ctr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oordinační komponeneta (mas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skytuje klientovi rozhraní pro zadání 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stará se o rozdělení práce do přibližně stejně náročných podúlo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pravuje podřízené komponenty a distribuuje mezi ně pod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dstartuje a řídí výpočet v podřízených komponentá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dvodí z výsledku jejich práce konečný výsledek, který obrdrží kli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 algn="ctr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odřízené prvky (slav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skytují kooridnátorovi rozhraní pro zadání pod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 algn="ctr">
              <a:spcBef>
                <a:spcPts val="451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85960" indent="-1605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 algn="ctr">
              <a:spcBef>
                <a:spcPts val="425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95400" y="936720"/>
            <a:ext cx="8999280" cy="55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</a:rPr>
              <a:t>Poznámky k implementac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1920" y="980640"/>
            <a:ext cx="88362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 budou otroci přistupovat k datům / vracet výsledk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ostanou jako argument / výsledek vrátí jako návratovou hodnot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přistup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zápis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díleného kontejne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 rozdělit na podúlo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 sloučit výsledk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ch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ázet s chybami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1066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Poznámky k implement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225360" y="1052640"/>
            <a:ext cx="8594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289080" indent="-285840">
              <a:spcBef>
                <a:spcPts val="4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lien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j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odstíněn od organizace výpočt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9080" indent="-285840">
              <a:spcBef>
                <a:spcPts val="4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lave je zodpovědný pouze za řešení pod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9080" indent="-285840">
              <a:spcBef>
                <a:spcPts val="4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rozdělení úloh a spočtení celkového výsledku má na starosti pouze mast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9080" indent="-285840">
              <a:spcBef>
                <a:spcPts val="4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lient ani zpracování podúloh by nemělo záviset na algoritmu pro rozdělení zadání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66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P</a:t>
            </a: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říkl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7928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úlo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počtení součinu mati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základní myšlen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aplikujeme princip rozděl a panuj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aždý slave spočítá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aralelně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1 řádek výsledk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  <a:ea typeface="Microsoft YaHei"/>
              </a:rPr>
              <a:t>https://github.com/VL-CZ/master-slave-design-patt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066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Varian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79280" y="981000"/>
            <a:ext cx="883944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 paralelní výpočty - nejčastěj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troci pracují paralelně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master musí počkat na doběhnutí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všech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lav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 zvýšení přesnosti výsled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troci mají různé způsoby implementa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všichni dostanou stejné zadání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 zvýšení odolnosti vůči chyb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troci mají stejnou implementaci i zadání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mplementace otroků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omocí vlá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80920" indent="-17136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deální je použít např. Thread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mocí procesů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 algn="ctr">
              <a:spcBef>
                <a:spcPts val="451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80920" indent="-171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 algn="ctr">
              <a:spcBef>
                <a:spcPts val="425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C:\Users\Vojta\Pictures\master-slave-accuracy.PNG"/>
          <p:cNvPicPr/>
          <p:nvPr/>
        </p:nvPicPr>
        <p:blipFill>
          <a:blip r:embed="rId1"/>
          <a:stretch/>
        </p:blipFill>
        <p:spPr>
          <a:xfrm>
            <a:off x="4794120" y="1989000"/>
            <a:ext cx="40849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1116000" y="210960"/>
            <a:ext cx="7635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V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yuži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79280" y="981000"/>
            <a:ext cx="8839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Násobení 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aždý řádek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výsledku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spočítá jeden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sla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Zpracování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obrázk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apř.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převod obrázku na černobílý, neb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počítání diskrétní kosinové transforma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aždý slave pracuje s blokem N x N pixelů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b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ém obchodního cestující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(bez vracení do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č. bodu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70c0"/>
                </a:solidFill>
                <a:latin typeface="Arial"/>
                <a:ea typeface="Microsoft YaHei"/>
              </a:rPr>
              <a:t>https://en.wikipedia.org/wiki/Travelling_salesman_proble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aždý slave může např. začít v jiném vrchol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rik Smelík</dc:creator>
  <dc:description/>
  <cp:keywords/>
  <dc:language>en-US</dc:language>
  <cp:lastModifiedBy>Filip Zavoral</cp:lastModifiedBy>
  <dcterms:modified xsi:type="dcterms:W3CDTF">2022-06-25T18:33:24Z</dcterms:modified>
  <cp:revision>3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